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290-FB89-4934-924F-CC73D269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75E-E016-4C2F-9907-05A08E36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EBE-0C3E-4DCB-9B7F-4DB3809A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3B2-1398-44BF-AFFC-B9238CFC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8F2-92F8-4683-8EFF-AC65C18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9D7-A3D2-400A-A325-70D97D00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9DC-4548-4B64-9606-4821D71E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C69-2546-4BAE-AD1A-417DBECF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502-BE8E-4008-BA41-FA03BFC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542-E561-4D19-BBA5-C5A3C80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7AC-5C57-4265-81DB-7C459260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BFB-FFD2-4540-ADA2-663B46E0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B57-9AAB-4EF5-A990-53897FA44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que"/>
              </a:rPr>
              <a:t>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Il est bon que nous etablions chez nous où que nous soyons heur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Semble-t’il que la vie est plus agréable aprés les souffra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Est-il possible que nous puissions devenir les enfants d’un pays different de le pays de nous orig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On sacrifie tellement de 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Au nom de la pa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On vend les siens,                                 on se tra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Et il y a avec ça toujours une c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asque"/>
              </a:rPr>
              <a:t>Que tout le monde oub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Basque"/>
              </a:rPr>
              <a:t>On n'emporte pas la terre quand c'est f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1473120" cy="139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1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Nous devons pardonner les tragédies de nous passés afin que nous soyons cont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Si nous rêve, nous trouverons pa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Si nous étions accueillir, nous aurions la jo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c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Loin des cauchemars de mon pas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Loin de mon enf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Loin des rues en terre des quart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asque"/>
              </a:rPr>
              <a:t>Mon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7280" y="3176640"/>
            <a:ext cx="3456000" cy="368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73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Loin de mes danses avec la m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Loin de mes souffr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Je suis chez moi malgré l'appa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Basque"/>
              </a:rPr>
              <a:t>Car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1964400">
            <a:off x="4267080" y="320004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'ai retrouvé la joie de vivre, 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'ai retrouvé le goût d'aimer, 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e me suis fait une vie, une famille, un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asque"/>
              </a:rPr>
              <a:t>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541008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Un bout de terre n'a jamais fait chez s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C'est le temps qui me l'a app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Quand je regarde, je trouve autour de m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Basque"/>
              </a:rPr>
              <a:t>Un nouveau sens à la pa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'ai vécu l'enfer sur la 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que"/>
              </a:rPr>
              <a:t>Qu'on appelle mon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vous demande pardon soeurs et frè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Mais comprenez mon c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057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3967200" cy="40100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Basque"/>
              </a:rPr>
              <a:t>J'ai perdu tout ce qui m'est cher dans ce pays m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Basque"/>
              </a:rPr>
              <a:t>C'est la triste histoire de nos 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sque"/>
              </a:rPr>
              <a:t>Oh ! Mais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Basque"/>
              </a:rPr>
              <a:t>Je peux tout faire, je peux rê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94640" y="3581280"/>
            <a:ext cx="2349360" cy="3276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6781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suis pas ingrat, ni lâ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C'est juste que je suis bien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Je suis un nomade, je suis chez moi où on m'a accue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Basque"/>
              </a:rPr>
              <a:t>Même dans le froid d'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que"/>
              </a:rPr>
              <a:t>Il est essentiel que nous oublions la souffrance de le pass</a:t>
            </a:r>
            <a:r>
              <a:rPr b="1" lang="en-US" sz="3200" spc="-1" strike="noStrike">
                <a:solidFill>
                  <a:srgbClr val="ff0000"/>
                </a:solidFill>
                <a:latin typeface="Basque"/>
                <a:ea typeface="Arial"/>
              </a:rPr>
              <a:t>é et avoir plaisir à la 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0:15:26Z</dcterms:created>
  <dc:creator>The Van Woerkom</dc:creator>
  <dc:description/>
  <dc:language>en-US</dc:language>
  <cp:lastModifiedBy>Toni Theisen</cp:lastModifiedBy>
  <dcterms:modified xsi:type="dcterms:W3CDTF">2007-02-10T16:29:40Z</dcterms:modified>
  <cp:revision>6</cp:revision>
  <dc:subject/>
  <dc:title>Terre</dc:title>
</cp:coreProperties>
</file>